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12.jpeg" ContentType="image/jpeg"/>
  <Override PartName="/ppt/media/image17.gif" ContentType="image/gif"/>
  <Override PartName="/ppt/media/image2.wmf" ContentType="image/x-wmf"/>
  <Override PartName="/ppt/media/image16.jpeg" ContentType="image/jpeg"/>
  <Override PartName="/ppt/media/image14.jpeg" ContentType="image/jpeg"/>
  <Override PartName="/ppt/media/image9.jpeg" ContentType="image/jpeg"/>
  <Override PartName="/ppt/media/image1.gif" ContentType="image/gif"/>
  <Override PartName="/ppt/media/image3.gif" ContentType="image/gif"/>
  <Override PartName="/ppt/media/image6.wmf" ContentType="image/x-wmf"/>
  <Override PartName="/ppt/media/image11.wmf" ContentType="image/x-wmf"/>
  <Override PartName="/ppt/media/image15.wmf" ContentType="image/x-wmf"/>
  <Override PartName="/ppt/media/image7.png" ContentType="image/png"/>
  <Override PartName="/ppt/media/image4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13EC7-A6D6-41C3-A94E-09C30275CB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7D527-01BF-4AC3-8955-8AD1658AF3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F43C6-D7D9-477D-8024-0B1ABB0737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3919D-A6DD-4723-A0B2-48FE57AF3A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C44B2-F5DE-483A-A36A-F737FBAA64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98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5A4D2-5596-48C6-89F4-530562E316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6DED2-24ED-49CF-A337-FD571D4890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F06DB-A454-4388-B470-A2E9A995C6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81480" y="1015524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AE3FD-FE80-4D07-B9BC-9BEB4B1F0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9520" y="801720"/>
            <a:ext cx="5343840" cy="40068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4200" y="5078520"/>
            <a:ext cx="60530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Add numb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3371B-B5BC-4C08-A04D-1664432B7C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189DC-F18A-45AE-A36A-5D6840C6A0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6B124-A289-4BF2-A180-92E1D3D626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2C027-28B5-4EAF-A3AD-86CECE902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4200" y="5078520"/>
            <a:ext cx="60530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Volunteers to do the points drill apres. Get three or fou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CFAC7-088E-4A57-B0FD-6E51EEE7D9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98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9BE-7105-43C5-9002-1CBD303D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443-86BA-405C-9794-B3F48DD3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703-7715-4905-8AA1-437C3262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AF1-5000-42B3-9204-4464FC5A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BEA-0E15-48D5-9EF5-644D68B3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BA8-6E24-4283-AA09-F1C08859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B27-2AEA-4C92-BA66-527DAD9E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A4AF-3EBF-4866-8F06-28F1065B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274-9D00-44BF-9B0F-21E31F37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581-1618-4DB3-B081-BB8CB01D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B79-8462-4CF1-B124-C5B09A51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C97-8A1C-44DF-9E66-B0E1441C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B5F53-44FA-4C1C-A02E-CF977DAA8F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wmf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8.gif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9.jpeg"/><Relationship Id="rId6" Type="http://schemas.openxmlformats.org/officeDocument/2006/relationships/image" Target="../media/image11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0" y="525600"/>
            <a:ext cx="108345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800080"/>
                </a:solidFill>
                <a:latin typeface="Comic Sans MS"/>
                <a:ea typeface="Arial"/>
              </a:rPr>
              <a:t>Est-ce que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je </a:t>
            </a:r>
            <a:r>
              <a:rPr b="1" lang="en-GB" sz="3600" spc="-1" strike="noStrike">
                <a:solidFill>
                  <a:srgbClr val="00cc00"/>
                </a:solidFill>
                <a:latin typeface="Comic Sans MS"/>
                <a:ea typeface="Arial"/>
              </a:rPr>
              <a:t>peux</a:t>
            </a:r>
            <a:r>
              <a:rPr b="1" lang="en-GB" sz="3600" spc="-1" strike="noStrike">
                <a:solidFill>
                  <a:srgbClr val="00b050"/>
                </a:solidFill>
                <a:latin typeface="Comic Sans MS"/>
                <a:ea typeface="Arial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  <a:ea typeface="Arial"/>
              </a:rPr>
              <a:t>m</a:t>
            </a:r>
            <a:r>
              <a:rPr b="1" lang="en-GB" sz="3600" spc="-1" strike="noStrike">
                <a:solidFill>
                  <a:srgbClr val="009900"/>
                </a:solidFill>
                <a:latin typeface="Comic Sans MS"/>
                <a:ea typeface="Arial"/>
              </a:rPr>
              <a:t>’asseoir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? Maca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800080"/>
                </a:solidFill>
                <a:latin typeface="Comic Sans MS"/>
                <a:ea typeface="Arial"/>
              </a:rPr>
              <a:t>Est-ce que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je </a:t>
            </a:r>
            <a:r>
              <a:rPr b="1" lang="en-GB" sz="3600" spc="-1" strike="noStrike">
                <a:solidFill>
                  <a:srgbClr val="00cc00"/>
                </a:solidFill>
                <a:latin typeface="Comic Sans MS"/>
                <a:ea typeface="Arial"/>
              </a:rPr>
              <a:t>peux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  <a:ea typeface="Arial"/>
              </a:rPr>
              <a:t>m</a:t>
            </a:r>
            <a:r>
              <a:rPr b="1" lang="en-GB" sz="3600" spc="-1" strike="noStrike">
                <a:solidFill>
                  <a:srgbClr val="009900"/>
                </a:solidFill>
                <a:latin typeface="Comic Sans MS"/>
                <a:ea typeface="Arial"/>
              </a:rPr>
              <a:t>’asseoir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? Maca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800080"/>
                </a:solidFill>
                <a:latin typeface="Comic Sans MS"/>
                <a:ea typeface="Arial"/>
              </a:rPr>
              <a:t>Est-ce que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je </a:t>
            </a:r>
            <a:r>
              <a:rPr b="1" lang="en-GB" sz="3600" spc="-1" strike="noStrike">
                <a:solidFill>
                  <a:srgbClr val="00cc00"/>
                </a:solidFill>
                <a:latin typeface="Comic Sans MS"/>
                <a:ea typeface="Arial"/>
              </a:rPr>
              <a:t>peux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  <a:ea typeface="Arial"/>
              </a:rPr>
              <a:t>m</a:t>
            </a:r>
            <a:r>
              <a:rPr b="1" lang="en-GB" sz="3600" spc="-1" strike="noStrike">
                <a:solidFill>
                  <a:srgbClr val="009900"/>
                </a:solidFill>
                <a:latin typeface="Comic Sans MS"/>
                <a:ea typeface="Arial"/>
              </a:rPr>
              <a:t>’asseoir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? Maca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h Macaren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559640" y="30718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236520" y="5354640"/>
            <a:ext cx="441000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arce que je </a:t>
            </a:r>
            <a:r>
              <a:rPr b="1" lang="en-US" sz="3200" spc="-1" strike="noStrike">
                <a:solidFill>
                  <a:srgbClr val="009900"/>
                </a:solidFill>
                <a:latin typeface="Comic Sans MS"/>
                <a:ea typeface="Arial"/>
              </a:rPr>
              <a:t>su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619520" y="3948120"/>
            <a:ext cx="267804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nt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iza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tigué(</a:t>
            </a:r>
            <a:r>
              <a:rPr b="1" lang="en-GB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musant(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telligent(</a:t>
            </a:r>
            <a:r>
              <a:rPr b="1" lang="en-GB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013360" y="4503600"/>
            <a:ext cx="36360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5375160" y="3948120"/>
            <a:ext cx="82080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4"/>
          <a:srcRect l="17383" t="29894" r="21799" b="1521"/>
          <a:stretch/>
        </p:blipFill>
        <p:spPr>
          <a:xfrm>
            <a:off x="4956120" y="6383160"/>
            <a:ext cx="425520" cy="41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5"/>
          <a:stretch/>
        </p:blipFill>
        <p:spPr>
          <a:xfrm>
            <a:off x="5627520" y="4956120"/>
            <a:ext cx="416160" cy="52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6"/>
          <a:stretch/>
        </p:blipFill>
        <p:spPr>
          <a:xfrm>
            <a:off x="4956120" y="5880240"/>
            <a:ext cx="728640" cy="4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129600" y="0"/>
            <a:ext cx="21042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a v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040120" y="33037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 va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00240" y="195408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 va très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45440" y="46530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omme ci comme 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042280" y="58435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 va 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icture 6"/>
          <p:cNvSpPr/>
          <p:nvPr/>
        </p:nvSpPr>
        <p:spPr>
          <a:xfrm>
            <a:off x="833400" y="1795320"/>
            <a:ext cx="94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833400" y="3144960"/>
            <a:ext cx="944640" cy="94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833400" y="5684760"/>
            <a:ext cx="944640" cy="944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3"/>
          <a:stretch/>
        </p:blipFill>
        <p:spPr>
          <a:xfrm>
            <a:off x="833400" y="4414680"/>
            <a:ext cx="944640" cy="944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6972480" y="0"/>
            <a:ext cx="310824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t t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t vous Mad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4200480" y="2940120"/>
            <a:ext cx="260352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rce que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su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"/>
          <p:cNvPicPr/>
          <p:nvPr/>
        </p:nvPicPr>
        <p:blipFill>
          <a:blip r:embed="rId4"/>
          <a:stretch/>
        </p:blipFill>
        <p:spPr>
          <a:xfrm>
            <a:off x="5964120" y="33660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3108240" y="1008000"/>
            <a:ext cx="2687760" cy="7034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omic Sans MS"/>
              </a:rPr>
              <a:t>Pourquo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" descr=""/>
          <p:cNvPicPr/>
          <p:nvPr/>
        </p:nvPicPr>
        <p:blipFill>
          <a:blip r:embed="rId5"/>
          <a:stretch/>
        </p:blipFill>
        <p:spPr>
          <a:xfrm>
            <a:off x="3611520" y="252360"/>
            <a:ext cx="924120" cy="757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6"/>
          <a:stretch/>
        </p:blipFill>
        <p:spPr>
          <a:xfrm>
            <a:off x="4535640" y="0"/>
            <a:ext cx="541080" cy="541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6972480" y="1847880"/>
            <a:ext cx="27288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ant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u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y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usant(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  <a:ea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ntelligent(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  <a:ea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6972480" y="4703760"/>
            <a:ext cx="27716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iza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tigué(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l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8" descr=""/>
          <p:cNvPicPr/>
          <p:nvPr/>
        </p:nvPicPr>
        <p:blipFill>
          <a:blip r:embed="rId7"/>
          <a:stretch/>
        </p:blipFill>
        <p:spPr>
          <a:xfrm>
            <a:off x="7223040" y="470376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"/>
          <p:cNvPicPr/>
          <p:nvPr/>
        </p:nvPicPr>
        <p:blipFill>
          <a:blip r:embed="rId8"/>
          <a:srcRect l="17384" t="29894" r="21801" b="1521"/>
          <a:stretch/>
        </p:blipFill>
        <p:spPr>
          <a:xfrm>
            <a:off x="7980480" y="3940200"/>
            <a:ext cx="425160" cy="41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"/>
          <p:cNvPicPr/>
          <p:nvPr/>
        </p:nvPicPr>
        <p:blipFill>
          <a:blip r:embed="rId9"/>
          <a:stretch/>
        </p:blipFill>
        <p:spPr>
          <a:xfrm>
            <a:off x="7223040" y="2016000"/>
            <a:ext cx="420840" cy="279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1" descr=""/>
          <p:cNvPicPr/>
          <p:nvPr/>
        </p:nvPicPr>
        <p:blipFill>
          <a:blip r:embed="rId10"/>
          <a:stretch/>
        </p:blipFill>
        <p:spPr>
          <a:xfrm>
            <a:off x="7475400" y="3359160"/>
            <a:ext cx="416160" cy="527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"/>
          <p:cNvPicPr/>
          <p:nvPr/>
        </p:nvPicPr>
        <p:blipFill>
          <a:blip r:embed="rId11"/>
          <a:stretch/>
        </p:blipFill>
        <p:spPr>
          <a:xfrm>
            <a:off x="7475400" y="6215040"/>
            <a:ext cx="416160" cy="588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3" descr=""/>
          <p:cNvPicPr/>
          <p:nvPr/>
        </p:nvPicPr>
        <p:blipFill>
          <a:blip r:embed="rId12"/>
          <a:stretch/>
        </p:blipFill>
        <p:spPr>
          <a:xfrm>
            <a:off x="7391520" y="5711760"/>
            <a:ext cx="728640" cy="49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4" descr=""/>
          <p:cNvPicPr/>
          <p:nvPr/>
        </p:nvPicPr>
        <p:blipFill>
          <a:blip r:embed="rId13"/>
          <a:stretch/>
        </p:blipFill>
        <p:spPr>
          <a:xfrm>
            <a:off x="7140600" y="2855880"/>
            <a:ext cx="363600" cy="503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5" descr=""/>
          <p:cNvPicPr/>
          <p:nvPr/>
        </p:nvPicPr>
        <p:blipFill>
          <a:blip r:embed="rId14"/>
          <a:stretch/>
        </p:blipFill>
        <p:spPr>
          <a:xfrm>
            <a:off x="7728120" y="2351160"/>
            <a:ext cx="820440" cy="500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"/>
          <p:cNvPicPr/>
          <p:nvPr/>
        </p:nvPicPr>
        <p:blipFill>
          <a:blip r:embed="rId15"/>
          <a:stretch/>
        </p:blipFill>
        <p:spPr>
          <a:xfrm>
            <a:off x="7223040" y="5292720"/>
            <a:ext cx="363600" cy="37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755640" y="2347920"/>
            <a:ext cx="856764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511280" y="4284720"/>
            <a:ext cx="705636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252360"/>
            <a:ext cx="100807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5300" spc="-1" strike="noStrike">
                <a:solidFill>
                  <a:srgbClr val="660066"/>
                </a:solidFill>
                <a:latin typeface="Comic Sans MS"/>
              </a:rPr>
              <a:t>Est-ce que</a:t>
            </a:r>
            <a:r>
              <a:rPr b="1" lang="fr-FR" sz="5300" spc="-1" strike="noStrike">
                <a:solidFill>
                  <a:srgbClr val="000000"/>
                </a:solidFill>
                <a:latin typeface="Comic Sans MS"/>
              </a:rPr>
              <a:t> je </a:t>
            </a:r>
            <a:r>
              <a:rPr b="1" lang="fr-FR" sz="5300" spc="-1" strike="noStrike">
                <a:solidFill>
                  <a:srgbClr val="009900"/>
                </a:solidFill>
                <a:latin typeface="Comic Sans MS"/>
              </a:rPr>
              <a:t>peux</a:t>
            </a:r>
            <a:r>
              <a:rPr b="1" lang="fr-FR" sz="5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5300" spc="-1" strike="noStrike">
                <a:solidFill>
                  <a:srgbClr val="003300"/>
                </a:solidFill>
                <a:latin typeface="Comic Sans MS"/>
              </a:rPr>
              <a:t>faire</a:t>
            </a:r>
            <a:r>
              <a:rPr b="1" lang="fr-FR" sz="53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1" lang="fr-FR" sz="5300" spc="-1" strike="noStrike">
                <a:solidFill>
                  <a:srgbClr val="000000"/>
                </a:solidFill>
                <a:latin typeface="Comic Sans MS"/>
              </a:rPr>
              <a:t>les points</a:t>
            </a:r>
            <a:r>
              <a:rPr b="1" lang="fr-FR" sz="5300" spc="-1" strike="noStrike">
                <a:solidFill>
                  <a:srgbClr val="660066"/>
                </a:solidFill>
                <a:latin typeface="Comic Sans MS"/>
              </a:rPr>
              <a:t>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695760" y="2268360"/>
            <a:ext cx="2352600" cy="1556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maintenan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ce que  je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su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68120" y="1932120"/>
            <a:ext cx="3192480" cy="2512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611520" y="4451400"/>
            <a:ext cx="253224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prè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…(Lott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611520" y="4989600"/>
            <a:ext cx="253224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ce que je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su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635880" y="2351160"/>
            <a:ext cx="267804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nt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iza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tigué(</a:t>
            </a:r>
            <a:r>
              <a:rPr b="1" lang="en-GB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musant(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telligent(</a:t>
            </a:r>
            <a:r>
              <a:rPr b="1" lang="en-GB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2"/>
          <a:stretch/>
        </p:blipFill>
        <p:spPr>
          <a:xfrm>
            <a:off x="7029360" y="2908440"/>
            <a:ext cx="363600" cy="502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3"/>
          <a:stretch/>
        </p:blipFill>
        <p:spPr>
          <a:xfrm>
            <a:off x="7391520" y="2351160"/>
            <a:ext cx="820440" cy="50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4"/>
          <a:srcRect l="17383" t="29894" r="21799" b="1521"/>
          <a:stretch/>
        </p:blipFill>
        <p:spPr>
          <a:xfrm>
            <a:off x="6972480" y="4788000"/>
            <a:ext cx="425160" cy="41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5"/>
          <a:stretch/>
        </p:blipFill>
        <p:spPr>
          <a:xfrm>
            <a:off x="7643880" y="3359160"/>
            <a:ext cx="415800" cy="527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6"/>
          <a:stretch/>
        </p:blipFill>
        <p:spPr>
          <a:xfrm>
            <a:off x="6972480" y="4284720"/>
            <a:ext cx="728640" cy="49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7"/>
          <a:stretch/>
        </p:blipFill>
        <p:spPr>
          <a:xfrm>
            <a:off x="587520" y="5207040"/>
            <a:ext cx="1344600" cy="110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"/>
          <p:cNvPicPr/>
          <p:nvPr/>
        </p:nvPicPr>
        <p:blipFill>
          <a:blip r:embed="rId8"/>
          <a:stretch/>
        </p:blipFill>
        <p:spPr>
          <a:xfrm>
            <a:off x="1008000" y="4535640"/>
            <a:ext cx="541440" cy="541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6"/>
          <p:cNvSpPr/>
          <p:nvPr/>
        </p:nvSpPr>
        <p:spPr>
          <a:xfrm>
            <a:off x="0" y="6383160"/>
            <a:ext cx="2687760" cy="7034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omic Sans MS"/>
              </a:rPr>
              <a:t>Pourquo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0" y="0"/>
            <a:ext cx="10080720" cy="1983240"/>
          </a:xfrm>
          <a:prstGeom prst="rect">
            <a:avLst/>
          </a:prstGeom>
          <a:solidFill>
            <a:srgbClr val="ffff99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200" spc="-1" strike="noStrike">
                <a:solidFill>
                  <a:srgbClr val="800080"/>
                </a:solidFill>
                <a:latin typeface="Comic Sans MS"/>
              </a:rPr>
              <a:t>Est-ce que</a:t>
            </a:r>
            <a:r>
              <a:rPr b="0" lang="en-GB" sz="6200" spc="-1" strike="noStrike">
                <a:solidFill>
                  <a:srgbClr val="000000"/>
                </a:solidFill>
                <a:latin typeface="Comic Sans MS"/>
              </a:rPr>
              <a:t> je </a:t>
            </a:r>
            <a:r>
              <a:rPr b="0" lang="en-GB" sz="6200" spc="-1" strike="noStrike">
                <a:solidFill>
                  <a:srgbClr val="33cc33"/>
                </a:solidFill>
                <a:latin typeface="Comic Sans MS"/>
              </a:rPr>
              <a:t>peux</a:t>
            </a:r>
            <a:r>
              <a:rPr b="0" lang="en-GB" sz="6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200" spc="-1" strike="noStrike">
                <a:solidFill>
                  <a:srgbClr val="008000"/>
                </a:solidFill>
                <a:latin typeface="Comic Sans MS"/>
              </a:rPr>
              <a:t>faire</a:t>
            </a:r>
            <a:r>
              <a:rPr b="0" lang="en-GB" sz="6200" spc="-1" strike="noStrike">
                <a:solidFill>
                  <a:srgbClr val="000000"/>
                </a:solidFill>
                <a:latin typeface="Comic Sans MS"/>
              </a:rPr>
              <a:t> am stram gram</a:t>
            </a:r>
            <a:r>
              <a:rPr b="0" lang="en-GB" sz="6200" spc="-1" strike="noStrike">
                <a:solidFill>
                  <a:srgbClr val="800080"/>
                </a:solidFill>
                <a:latin typeface="Comic Sans MS"/>
              </a:rPr>
              <a:t>?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550800" y="2063880"/>
            <a:ext cx="5197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Comic Sans MS"/>
              </a:rPr>
              <a:t>Am Stram 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Comic Sans MS"/>
              </a:rPr>
              <a:t>Pic et 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Comic Sans MS"/>
              </a:rPr>
              <a:t>Et col et 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Comic Sans MS"/>
              </a:rPr>
              <a:t>Bour et B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Comic Sans MS"/>
              </a:rPr>
              <a:t>Et Ra Ta T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Comic Sans MS"/>
              </a:rPr>
              <a:t>Am Stram Gra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8820000" y="1008000"/>
            <a:ext cx="1071720" cy="1071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5040360" y="3065400"/>
            <a:ext cx="441000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arce que je </a:t>
            </a:r>
            <a:r>
              <a:rPr b="1" lang="en-US" sz="3200" spc="-1" strike="noStrike">
                <a:solidFill>
                  <a:srgbClr val="009900"/>
                </a:solidFill>
                <a:latin typeface="Comic Sans MS"/>
                <a:ea typeface="Arial"/>
              </a:rPr>
              <a:t>su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719760" y="3863880"/>
            <a:ext cx="267840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nt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iza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tigué(</a:t>
            </a:r>
            <a:r>
              <a:rPr b="1" lang="en-GB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musant(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telligent(</a:t>
            </a:r>
            <a:r>
              <a:rPr b="1" lang="en-GB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7391520" y="67197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3"/>
          <a:stretch/>
        </p:blipFill>
        <p:spPr>
          <a:xfrm>
            <a:off x="7113600" y="4421160"/>
            <a:ext cx="36360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4"/>
          <a:stretch/>
        </p:blipFill>
        <p:spPr>
          <a:xfrm>
            <a:off x="7475400" y="3863880"/>
            <a:ext cx="820800" cy="500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5"/>
          <a:srcRect l="17384" t="29894" r="21801" b="1521"/>
          <a:stretch/>
        </p:blipFill>
        <p:spPr>
          <a:xfrm>
            <a:off x="7056360" y="6300720"/>
            <a:ext cx="425520" cy="412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6"/>
          <a:stretch/>
        </p:blipFill>
        <p:spPr>
          <a:xfrm>
            <a:off x="7728120" y="4871880"/>
            <a:ext cx="415800" cy="527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7"/>
          <a:stretch/>
        </p:blipFill>
        <p:spPr>
          <a:xfrm>
            <a:off x="7056360" y="5796000"/>
            <a:ext cx="728640" cy="49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ini Stone</dc:creator>
  <dc:description/>
  <dc:language>en-US</dc:language>
  <cp:lastModifiedBy>Salmon, Davina</cp:lastModifiedBy>
  <dcterms:modified xsi:type="dcterms:W3CDTF">2014-01-03T12:52:35Z</dcterms:modified>
  <cp:revision>1</cp:revision>
  <dc:subject/>
  <dc:title>PowerPoint Presentation</dc:title>
</cp:coreProperties>
</file>